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040-F46E-4CD9-A63B-AE212EA4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050-9314-429A-9BEE-E2172433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9B3AF-68A3-45A2-9081-77E067E3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AEF72-2F6D-4113-B4BA-6164761C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AD51E-0E2C-497B-B48F-84188FFC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3CF5A-CDD9-4BBD-B85F-F656EEB9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F7504-E997-4FE0-A138-F4A6190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00B2D-DCED-468D-86E0-95601815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D6B59-4C5D-46DF-8DF3-A7EC540A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D64E4-CC0B-4428-881C-AF507D18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53337-4B73-4416-81A6-04EF5E2D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EBB42-D44B-4883-A5F0-AD556EE7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F22-E2B1-4E63-9E98-2C5A0FF7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89D8C-8531-4DCE-9413-3EFC3052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32E76-026E-44CC-887B-EFF2BBD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AA446-75FE-4AE1-8DC6-542B87E1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4C285-E28E-48C6-AD84-98B5658C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A9E12-850B-4FBF-9B55-4D347D8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8A10D-4DA3-429E-A9D8-08003651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0E0F7-35A1-4107-9298-689E31D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ADBE1-1688-467C-8BC7-3EE1222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23B0A-3987-4FF7-8810-AF2F7488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9F1F9-5F6E-4ADF-9FE7-8C49E207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D43-463B-43AE-9C55-F09125CE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44319-1816-4030-A2B6-2C85C4EF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621D8-B47C-4E82-BA93-2B8F0B61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95DF0-BADE-41D0-BC32-FB29F5E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A5EE8-13CB-4EA4-8097-713C0F6B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9EDCA-C334-45B8-AC11-54539EA4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FE246-BFDA-4E27-BCF9-31670397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2CBA6-A4F4-4330-B04C-3040F641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BEE4C-7DA6-4FE2-B1F5-4CF3B8E1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B830D-8016-479F-9C97-C53DC70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8EA2B-5257-4F5A-A7D6-68F20A49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C0DB-DA93-4643-8731-2C8477E2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C2054-BE13-4290-8D72-DFEE68BD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749C5-C094-4E02-88A2-2CA90055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BCEEC-F061-4707-9299-2D2A94E6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4B376-5973-4EDB-BC60-1B431A19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478D2-20B8-4602-8E6F-CAE326F5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725B6-5F87-4435-B13F-EB181F16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75B5B-B170-400B-ACB2-4601E0FC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3358A-3359-4062-9943-17E9F903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EF520-3DCF-42AC-B654-8B0B8D84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7174E-E71A-4FC9-BE9B-38016D0A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E56A-8A23-4527-89A2-4C0CE08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FE5EA-E042-4EC8-B45B-2E71CA6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650DF-2358-4502-A20E-5F75C02C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4A378-0F28-45E6-ACA6-17650D0A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C75FB-355A-4715-B48A-8110395B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5DDBB-19BA-4E16-AD5A-F5ADC6CA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7ECDD-B916-42C3-9C5D-C42ED4DB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08CC6-7BC4-4CAA-B203-A1891E1D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A7E2B-A513-48CF-9459-3C4A1420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42DC6-18A2-4695-A4C8-270E0F27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BEB67-D1E6-45D3-AE67-F35A32FD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14B-FC26-41C1-97FC-4908DA3D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D7686-32A1-41D3-9F16-6CFC8040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BB7FB-B2FF-4C21-85D4-FD4E3280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DB14B-8235-4965-8851-BE9F1546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477FC-DCE3-42A9-B92B-7347EF4A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2147C-9974-4E90-9CA2-9EA6A0D2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9D6BB-C476-4AF7-9032-BA782F91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77714-AA2A-4945-B5D9-9800840C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D7ADD-913C-4D8F-9B57-3CDB7A9B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CF5D1-C384-458A-AA87-6F4B57AB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453F7-6634-47CB-8446-9BC6DEA7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5428-D028-45F5-91C7-14B22B34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EA50B-88CF-4824-8D0E-2EFFA1F1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1FEB7-C52C-47B2-9C24-58EC7FD2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2F988-D2B9-44C4-9507-C3BADDED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40AC9-9F2A-404B-97EA-01754DC9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B16DD-EF6A-47FB-B5A9-E036CF31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4D104-236D-49E1-936E-D082AE8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E63EC-40FC-4D7E-9024-2C580A4B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6638A-BB5F-4BBD-A235-0926CC65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D2605-436E-4185-8873-FD7C2AFA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86188-3977-4A89-89E7-5911288A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DA68-6B84-44C4-B321-3FEEEE5D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7CC6A-0F77-4474-B954-0A52258E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6B708-B93D-4938-9746-160F29B2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2D12C-CC8E-4413-B69E-4BDB3E0F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C2D96-6C28-4E42-8CF8-394EDBEC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2739E-429B-433B-BD1E-E7E8F0F6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AD35C-B98D-40A6-9F99-31AF3DB5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19212-DA68-48A6-B05C-B63B077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2E9C4-0D96-4FED-92E1-FA948819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464BE-3AF5-4C2A-87C1-B4A445A5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AE978-2EAA-4B72-96F5-FCB2165D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10C2-527C-454B-A6B9-19D95196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81715-83DC-48A8-A763-0C9A7BDF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E2074-FF0B-4E52-8D2E-0362B54B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07BA9-4118-4F30-B7CA-9FBF2E4D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1FF16-CBDF-4431-B460-12DD0049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AE7EF-8F43-4758-883A-B1E16377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15D7C-D074-4945-BF2D-CF060BA9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9A4AA-6A02-44DD-A8BF-EF2A5663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FAE73-2739-4CC1-8EDE-ED475C1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152EF-1749-48E6-A186-4C359F3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5C953-C2DA-417C-A490-DD28A8C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D285-965A-4708-95EB-8DF78261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4D520-DB7B-48C8-B4A9-7AA435AF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59F0E-926F-4717-B9A0-C05FAF3F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2A2474-BD1E-4539-9C97-22519146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8FEA1-3F11-4B46-9C9D-929B20B5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9D3D2-8595-4A03-8C09-5357E75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AC9BD-2A67-4256-A15F-0D165228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AD2A9-15F2-4C0B-B139-75638B3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DA2CB-7618-4CFC-A361-9CBB6E34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2BD9A-56A5-44EB-9405-36596612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1621C-4055-4CF9-8A2B-1A513A8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C0F-F075-4183-8C8C-44C55A20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9479-3917-4CE5-ACB9-6CAA0FA4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73BA6-5030-47A4-AEE2-602A45DA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43F7C-B322-49F9-8249-0453D30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BF0FC-EF04-486B-9596-401A9176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0384F-05EE-4A93-8233-83DDA268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1F977-7522-4CC3-9D81-494B7B33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BE07B-F697-419F-A42F-BB43D954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8C0EFA-6761-4942-AFC1-12C2CCFE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06760-AD6C-45BF-B052-3848EC34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138C2-51C2-48D7-B049-70DD11AD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66F4C-9189-440E-B85D-D185C35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42B2-8A48-47C1-B74E-827CA629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4F052-8C73-4C87-A9B0-02442DC1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F5866-9B9D-40F1-BD72-CB92B2B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4E9C1-84B0-48C8-913B-CEC031E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8F2CC-A32E-40FC-82CD-C0B68CC5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78840-EE74-41C9-9828-E911EAAA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5BFB7-9C20-4A6A-8C4F-874462B4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89A9F-56B2-441C-853F-299293B2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440546-DC79-49DF-8D42-ABD41D25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62B363-0333-4011-A0ED-BE6990B6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321E9-1391-478C-AEBE-38C48DF5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6AC7-39D1-4D20-9DAC-5F1350F8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0DB32-A1AD-4BC3-8100-E28E8068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89F8BD-378F-4134-86D6-06E8180E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4EFF72-3716-441C-B429-2B4DBA7B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5B975-C1AC-473B-A65C-C6963528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5773E-2D87-4EE7-8023-EA05DE38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0C0D97-6A04-432E-8DD9-5B8B0D65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3E0E3-63A2-44F6-AE5C-35B0D53B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412EF-3B66-4D15-83E4-D2800ECA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BFD2E-CFF1-4657-B5D9-D1B196E5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5672DE-AEA6-4567-B07E-DC1D5D1A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ECD1-786E-4481-AC07-97CCC98F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1F9F7-D847-48C2-8FFA-853F88F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80860-CD68-4E65-B539-88EEFE8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7D635-BFCC-43A2-96E1-57F1222B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117EC-C431-4EA0-BF36-86B85359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EF735-BFA4-4E92-906B-F18EA5C5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0B04B-7478-4BDA-8E6C-CCEE7C1A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CE1A7-A773-46DB-92BF-B940CEC0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D2AA1-7C24-4881-AC23-66358CC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A9879-841D-4688-B47A-6AE41ED1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DC9B5-23CA-43A7-A449-CA2EE310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4CC8-7A0B-495D-AED0-8162AFFA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C3E69A-5FD4-4BE2-9EE5-1C4D9DEB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040A10-4B6A-4CAF-A00F-39172566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885862-0D47-4934-ABBE-72B83005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9C5DA4-A377-4985-8706-EEF55E20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075A42-AFDF-4287-8490-194FEB2D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D6C92-0F13-4296-BA56-B1A69456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21275-1321-4B40-ABC8-DCAFF55B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3D7EE-3868-4EA6-8920-489DB08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1984D-634F-4696-BC08-06217737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7DA172-EACF-4178-B2E2-E2A0A5B0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4596-F7BD-4288-B51A-45CDA486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61BDE-A2B5-46C2-8C16-B8573512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B171B3-C10E-4588-81C8-774911AC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565FC-6696-404D-B072-F495AFB9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DC5B0F-A3BA-49C7-B682-80A986A3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82C03A-34CC-4DE2-B1B4-EF9635A9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9351A0-86CE-432B-B7C5-D94783AB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A2145D-3791-45B1-B2DB-00F6714E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D0B85A-D53F-4739-99B1-5A689238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790437-8BC6-478B-9C70-1C11F22D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B33657-9E47-4BA6-BD5F-0740AB8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D75A-2939-447C-843F-B560D658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57C9EB-9AAB-48CB-8418-45667C6A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E333C1-6600-4D3B-8CAE-7997B34C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65B14B-B370-455B-B4E3-B9EA4E66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9ED812-B173-4EEA-A3EE-97F6E879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73F751-C2E6-418B-82FB-89407E48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9F7E3F-D8D0-4664-982F-3D81A00C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251F78-B630-4405-A331-8609E35E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E1F7B6-820F-43DA-A2A8-12AE385F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A33FFD-02FB-404F-B0E6-E5123D88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08A95-C3A8-48D4-940A-BFDF619D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2C2B8-93F0-4E0F-BC5F-4277B10D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8E5E96-C00C-4630-92F0-AD3815A3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541C0F-4976-496F-A8B6-B237423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23EC27-2496-4CCF-B75C-A0A8F708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B71F25-3B4E-4874-A9FD-C1C8189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EE14E7-ECC2-49A5-8EEC-3A386256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26D7D-8122-440A-957E-FD664293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CF55C4-BBB1-4B16-8D2B-4C5CF3E6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0BD9-A23F-4F05-8724-9C21E91B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F67F-EA01-4C46-87B4-335FE648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F15-F19F-46F2-B776-7A25CAC5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B20B-86EE-4504-AC10-7A59A33C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B80A-37C5-4783-9B34-06203976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DA75-6E30-486E-B3C1-FA816B2F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F8D9-7BE7-445B-ACED-24940D24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1D6C-294E-41D1-AAB9-E2A294F3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9CCB-28C0-4BEF-9914-9FA5A2DC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1B9B-5B52-4DFF-AE9A-253F8F00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B10C-DD45-41B7-AC47-22F1FB66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2DE54-EFF6-4CB2-99F8-ADF07F27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5E4F-5363-4D76-94AD-A1022E28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448-CFEE-4845-AAD4-93F5001E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D883-F0D9-4DEB-B9EE-A4197ACE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1FF2-8DC2-4249-900A-A60F8DFE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463C-08A5-4175-8C9F-D3906166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EFA6-CAEB-4DBC-A44F-35266E28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54B5-8899-4F4B-9C94-5ABB012F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4A2C-A51D-47BA-85CF-AEDF422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8C4E-2BC8-4AF3-8B98-E9AE01C2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EE221-CB23-4F70-93E5-7FE142F1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4080-3274-4127-A102-FA010E90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405A6-2A4A-476D-8A64-B3213252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CF2-D76F-41CE-A50D-6F4D36D0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0342-E218-4DAA-BD88-93E0CF04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DA94A-0166-42A3-8055-177ED439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BC4F-5911-4CF7-A30B-1F27B0F7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C56BC-53B5-48AC-93BF-DAA6C273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F110-6BA8-46A0-B8B9-7FEF9FEB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16A5F-6292-498B-B832-1DAD0B96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BDFC4-68C2-4752-B0C3-050DB92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D001A-B617-489D-81EE-1DF6472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AAFE0-26DE-4658-ABDF-2AC9D29C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34189-06C3-49A9-B53F-8A2C3BCD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FA6-054F-4331-BD38-1A63EC8B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518DA-3A6F-4CE7-87DD-C093998F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143D4-0FAA-4223-B22A-B377C338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AE6C-4C18-4D4B-ABCD-476670DC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C40EE-2B9D-40F1-A35D-701594EA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7A740-48B2-42FE-90C0-6DA8B915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D0422-706D-43DF-BEA6-84840F34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CB1DC-3D8D-461D-85A4-3FC9D30D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A67A-3EDA-400D-868D-9DDF79F9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82F9E-03EB-4097-A6CA-E5E6017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D8877-F7D9-42DE-990F-8C53869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97A-0F61-47AE-A9A0-5E99A8A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D7A94-FF9D-4C87-A503-64C7A81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027EA-7790-46D6-A608-B7A2A4E0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6DE7-2A28-42F7-842A-4B00776F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AEFE-4690-4D94-875D-FDF02537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A21B-7B24-47CE-9E58-53203689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386A5-178F-4CCC-B7A7-5E49F6F6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E16BC-0EF5-464A-89DC-9A550F32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ABECE-23D4-42F9-85FB-D077CB53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6687B-0BAB-424D-A0DE-C20A3838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6AC2C-21DF-40C9-B94B-BA69C3F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93C-25D6-4DF8-AAFB-470BAF6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D20A2-3760-44FB-A300-9DC11401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F26F-28B8-456E-BF17-8E5D2786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7CFA7-8205-4453-B4FB-7A2D78CE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B034-CE33-4DD2-A8A2-D0803796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A0F00-2C39-4788-8032-0FE83647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68C47-A4B2-4B56-92BD-E45FBFD0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BBB6B-078A-4A81-BD18-20BFB3E8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F2461-E1D0-47A7-A4F0-0BD500D1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2BE1-8A80-4F36-8FC8-EF56470F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911AC-061E-4BB0-AFC1-34E0C84B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296-731A-4A20-9228-A1B9803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D83CA-2B62-4B04-AC16-11C62BEC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FA38F-C5FE-4C8A-A2C6-D075EB6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52A0C-4C15-45D0-B199-53AE2DFE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11396-D3CC-4ECF-A25D-779E8F6A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B3636-C9E3-4457-A366-73FA53C4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502F9-A8A5-49D8-9BB4-807FD390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6E580-8A5E-401A-A8F9-635023E5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00C5E-1F80-42AF-B876-D776E1F4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460C7-D4BD-4FD1-BC17-7685020F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169AA-94F9-406D-8005-81195A8E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7143-933F-41A5-A69F-9D77DB6078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9676-503C-4F53-819D-53352CF0C0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F797-8B98-4D65-8606-D7A59E96D6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F966-45E2-42A6-A18B-291FFE9FD0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2B3F-9A18-40B6-9E49-7370A29A06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222D-5BF3-489B-8F9C-09B046B33A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9A74-9ABA-489B-A2D8-89F3FF370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4CE5-A9DE-4F96-8DF7-A813743AD9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61E5-212D-4CFD-8BB6-3953E3813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BCB2-ABCA-4C8F-9A49-13ABEC854A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AC1F-6281-477C-A2EC-8C5EFE585D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9443-0BF7-45A2-9842-076A048A88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64E4-7BCC-4213-B134-5F15504D4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48C1-861C-465C-8598-B5091D6A7D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1655-628B-4614-8A1D-BB8B559E7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F4EE-76D2-4399-8AB0-74EC906CA6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468C-A76D-47B2-B11F-FB4F6A7A5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0597-8DC4-46E7-878B-A0B65B2D6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3A3C-07A1-4F20-9ABD-7AE5E50CF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A979-86EF-41F9-BB0E-A3CF196F7A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7DF9-E881-4686-96FC-F4F291C50F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904-2707-448E-9ED0-311B3EFA99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2644-70BA-422A-A352-AF12EAC626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C11A-775E-408B-A15F-44D151AAEF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76B9-1264-4277-B21C-2C7F556CE1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1D63-932A-4085-8425-F0E767503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65B2-8CDC-4C85-8002-FE5B6AEEC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7671-47D9-4EEB-A551-0F2E9D9EA4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99AA-1DF1-4C70-99E0-D59C7965F4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66C6-90B2-44F9-B16E-EC205422A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C2BE-043A-44D2-B1F9-E63FF871B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C8E-7414-49DF-8BA1-37115DF38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3C4C-1167-4CC6-8925-9A81489C46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60A1-49A3-4202-8904-B6AC2FDA3E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5327-AD50-4D6E-A8AC-D030A66AF5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14FA-0EE1-47D0-A0CF-3B5357ACAF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B074-BD7F-4900-B33F-2FF76C28D6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4544-C7E0-4E33-A7A4-73DD130C23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7537-FF91-442A-8CBC-256779DF23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86CE-E4D2-4841-ABB7-92C92924C8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BD8F-BCE0-4293-B404-D9EAE6A58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E0A4-EEB4-4BA9-8690-DC5ECF5F8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85760" y="3056040"/>
            <a:ext cx="87724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162000"/>
            <a:ext cx="8705520" cy="653400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7" descr=""/>
          <p:cNvPicPr/>
          <p:nvPr/>
        </p:nvPicPr>
        <p:blipFill>
          <a:blip r:embed="rId2"/>
          <a:stretch/>
        </p:blipFill>
        <p:spPr>
          <a:xfrm>
            <a:off x="981000" y="1835280"/>
            <a:ext cx="7623360" cy="4833720"/>
          </a:xfrm>
          <a:prstGeom prst="rect">
            <a:avLst/>
          </a:prstGeom>
          <a:ln w="0">
            <a:noFill/>
          </a:ln>
        </p:spPr>
      </p:pic>
      <p:sp>
        <p:nvSpPr>
          <p:cNvPr id="1008" name="椭圆 6148"/>
          <p:cNvSpPr/>
          <p:nvPr/>
        </p:nvSpPr>
        <p:spPr>
          <a:xfrm>
            <a:off x="6516720" y="2060640"/>
            <a:ext cx="1224000" cy="6490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6149"/>
          <p:cNvSpPr/>
          <p:nvPr/>
        </p:nvSpPr>
        <p:spPr>
          <a:xfrm>
            <a:off x="4341960" y="2997360"/>
            <a:ext cx="1454040" cy="6490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6150"/>
          <p:cNvSpPr/>
          <p:nvPr/>
        </p:nvSpPr>
        <p:spPr>
          <a:xfrm>
            <a:off x="6227640" y="3933720"/>
            <a:ext cx="1729080" cy="6494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椭圆 6151"/>
          <p:cNvSpPr/>
          <p:nvPr/>
        </p:nvSpPr>
        <p:spPr>
          <a:xfrm>
            <a:off x="4356000" y="4797360"/>
            <a:ext cx="1728720" cy="6494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椭圆 6152"/>
          <p:cNvSpPr/>
          <p:nvPr/>
        </p:nvSpPr>
        <p:spPr>
          <a:xfrm>
            <a:off x="6227640" y="5748480"/>
            <a:ext cx="1454400" cy="6490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461880" y="758880"/>
            <a:ext cx="8220240" cy="59245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25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25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1042920" y="5373720"/>
            <a:ext cx="2592360" cy="12952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5508720" y="5373720"/>
            <a:ext cx="2592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365120" y="682560"/>
            <a:ext cx="6062760" cy="61228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2987640" y="342900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2411280" y="400536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2484360" y="458136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2484360" y="515772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2556000" y="573408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2556000" y="6367320"/>
            <a:ext cx="36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695600" y="1471680"/>
            <a:ext cx="5752800" cy="39146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26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195640" y="40338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2195640" y="4724280"/>
            <a:ext cx="54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262080" y="1271520"/>
            <a:ext cx="8619840" cy="4314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38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476360" y="4164120"/>
            <a:ext cx="388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388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538280" y="981000"/>
            <a:ext cx="6067440" cy="4896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2340000" y="175752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2340000" y="242100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2411280" y="306864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2411280" y="371628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2556000" y="436572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2627280" y="5013360"/>
            <a:ext cx="489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162000" y="822240"/>
            <a:ext cx="8820000" cy="58485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12290" descr=""/>
          <p:cNvPicPr/>
          <p:nvPr/>
        </p:nvPicPr>
        <p:blipFill>
          <a:blip r:embed="rId2"/>
          <a:stretch/>
        </p:blipFill>
        <p:spPr>
          <a:xfrm>
            <a:off x="971640" y="2378160"/>
            <a:ext cx="6200640" cy="4133880"/>
          </a:xfrm>
          <a:prstGeom prst="rect">
            <a:avLst/>
          </a:prstGeom>
          <a:ln w="0">
            <a:noFill/>
          </a:ln>
        </p:spPr>
      </p:pic>
      <p:sp>
        <p:nvSpPr>
          <p:cNvPr id="1042" name="椭圆 12291"/>
          <p:cNvSpPr/>
          <p:nvPr/>
        </p:nvSpPr>
        <p:spPr>
          <a:xfrm>
            <a:off x="2109960" y="3457440"/>
            <a:ext cx="431640" cy="4334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12292"/>
          <p:cNvSpPr/>
          <p:nvPr/>
        </p:nvSpPr>
        <p:spPr>
          <a:xfrm>
            <a:off x="1403280" y="5013360"/>
            <a:ext cx="432000" cy="4334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85760" y="1328760"/>
            <a:ext cx="8772480" cy="4200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547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6516720" y="4221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619280" y="4797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6372360" y="486900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2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